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0.pct" ContentType="image/x-pict"/>
  <Override PartName="/ppt/media/image16.jpeg" ContentType="image/jpeg"/>
  <Override PartName="/ppt/media/image15.jpeg" ContentType="image/jpeg"/>
  <Override PartName="/ppt/media/image3.jpeg" ContentType="image/jpeg"/>
  <Override PartName="/ppt/media/image4.png" ContentType="image/png"/>
  <Override PartName="/ppt/media/image1.png" ContentType="image/png"/>
  <Override PartName="/ppt/media/image12.pct" ContentType="image/x-pict"/>
  <Override PartName="/ppt/media/image7.gif" ContentType="image/gif"/>
  <Override PartName="/ppt/media/image5.jpeg" ContentType="image/jpeg"/>
  <Override PartName="/ppt/media/image6.png" ContentType="image/png"/>
  <Override PartName="/ppt/media/image13.pct" ContentType="image/x-pict"/>
  <Override PartName="/ppt/media/image2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Int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Mix &amp; Mingle Slide 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(approximatel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 will appear when next word in sequence is clic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ponding to students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“in the moment”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usually in the classroom when you may be under more pressure to respo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ming can v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ver delay feedback beyond when it would make a difference to student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ou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orit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ints and questions always relate to major learning go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en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pecific responses to student work and/or questions - is the student in the frame of mind to receive the feedbac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Group/clas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when most of class misses same concept - teaching opportu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“Growing Success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Graffiti activity each group starting with one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ossible cho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unter (Sample #4) – multiplicative thinking (page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rielle (Sample #5) – additive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aleigh (Sample #3) – mathematical vocabulary is behind her conceptual understanding – doesn’t have the form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roups of 5 gather at one chart paper (Strengths, Needs, Next Steps for the additive or multiplicative student sam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one marker go from quote-to-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inutes at first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inutes at each of the next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up at original quote - 3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comments from other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key elements with the large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up at original quote - 3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comments from other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key elements with the large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remai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participants to reflect on and record key learnings from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flect and record their responses to the ques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t is Proportional Reasoning on sticky notes.  Each idea will go on a separate not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 groups of 2 or 4, participants begin to create a concept web from common understandings and ideas and organizing sticky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cuss with participants that we will revisit the concept map throughout our Proportional Reasoning breakout s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lick to next slide to review example of “Concept Ma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participants a moment or two to review concept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to share anything of particular 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0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troduce rea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ｷ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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K-12 Proportional Reasoning Pages 3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ｷ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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troduction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of Multiplicative 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ｷ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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Participants complete reading and revise concept maps in a new col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0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construct Stages of Multiplicative Reasoning chart.  Each researcher is highlighted in a different colour.  Participants match one of each colour (three groups of researchers, three colours) together to find connections of stages between three researc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connections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:  terms may vary slightly from researcher to researcher - essentially the sequence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l use the terms created by the teacher research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signs on the wall - as we find student samples that reflect a stage - post it under that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 completed “Stages of Multiplicative Reasoning” - participants will read introductory para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student work sample package to each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leftover package on document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eginning of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participants to place each sample somewhere on the stag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complete invite table groups to share their placements and reas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1C8D-3C15-45B7-9234-5E817B30A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D4DD-0B74-4691-BEE2-5E9BECE7E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50AF-0247-4806-BF30-AD4683CD1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2D6A-1A30-4927-8C16-009B1396D0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B810-29FC-4116-8A30-D5B0482615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5DDB-76B1-4F11-8605-112C50BC6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DD916-9735-4D68-AE5D-BFBCF0F05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78BA-58BB-424A-B5A6-C97C3832C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CAB6-3F93-4E26-AB5F-8AC3A9C27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8B88-CF92-4A1E-A8F2-5701EF738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3FF0-5358-4808-ACF8-90F925009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2999-3525-45F0-BD0B-DBF946258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2593-3CD4-41A7-91A9-1ABDD5A28E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jpeg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3.pct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mazon.ca/Six-Dinner-Sid-Inga-Moore/dp/0671796135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C35C-04E8-4989-B440-9DCD3C19CD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2819520"/>
            <a:ext cx="7619760" cy="3504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:</a:t>
            </a: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What is the Focu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Feedback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Breakou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K - Grad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838080" y="2057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oviding feedback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 flipH="1">
            <a:off x="6476760" y="304920"/>
            <a:ext cx="1811160" cy="2133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2819520" cy="1877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"/>
          <p:cNvPicPr/>
          <p:nvPr/>
        </p:nvPicPr>
        <p:blipFill>
          <a:blip r:embed="rId3"/>
          <a:stretch/>
        </p:blipFill>
        <p:spPr>
          <a:xfrm>
            <a:off x="4800600" y="3435480"/>
            <a:ext cx="1371600" cy="1898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0"/>
          <p:cNvSpPr/>
          <p:nvPr/>
        </p:nvSpPr>
        <p:spPr>
          <a:xfrm>
            <a:off x="3755880" y="1440000"/>
            <a:ext cx="25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In the Moment Feedback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feedback for the student work sample focusing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762120" cy="699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4495680" y="3429000"/>
            <a:ext cx="762120" cy="700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4572000" y="4495680"/>
            <a:ext cx="762120" cy="7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In the Moment Feedback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5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your tabl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or 3 participants write </a:t>
            </a:r>
            <a:r>
              <a:rPr b="0" lang="en-US" sz="2600" spc="-1" strike="noStrike">
                <a:solidFill>
                  <a:srgbClr val="ff6600"/>
                </a:solidFill>
                <a:latin typeface="Arial"/>
              </a:rPr>
              <a:t>Streng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or 3 write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5e35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5 / 6 write </a:t>
            </a:r>
            <a:r>
              <a:rPr b="0" lang="en-US" sz="2600" spc="-1" strike="noStrike">
                <a:solidFill>
                  <a:srgbClr val="7a3100"/>
                </a:solidFill>
                <a:latin typeface="Arial"/>
              </a:rPr>
              <a:t>Next Ste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ff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e in a counterclockwise dir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der what is writ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comments in a different col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6019920" y="990720"/>
            <a:ext cx="31240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affiti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 to previously-recorded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signal, finish recording your ideas and move to the next ch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4708440" y="3962520"/>
            <a:ext cx="4130640" cy="27525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0" y="487692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ding In th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/Debrief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ing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ideas recorded on the chart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share significant point(s) with the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708440" y="3962520"/>
            <a:ext cx="4130640" cy="27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and revise your concept m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Journal Reflection: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890640" indent="-434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onsider the role and/or importance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he Moment Feedback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90640" indent="-434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hat are some of its challenges and strengths?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90640" indent="-434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How is our content knowledge connected to our feedbac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858000" y="152280"/>
            <a:ext cx="2057400" cy="14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sit with 3 people who you have not sat with in previous s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7A26-6CB2-438D-95B9-7EB48542BD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93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ept maps are graphical tools for organizing and representing knowledge. They includ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oncep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usually enclosed in circles or boxes of some type, and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elationships between concep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icated by a connecting line linking two concepts. Words on the line, referred to a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linking word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linking phra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specify the relationship between the two concep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The Theory Underlying Concept Maps and How to Construct and Use Th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Joseph D. Nov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map.ihmc.us/publications/researchpapers/theorycmaps/theoryunderlyingconceptmap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28" descr=""/>
          <p:cNvPicPr/>
          <p:nvPr/>
        </p:nvPicPr>
        <p:blipFill>
          <a:blip r:embed="rId1"/>
          <a:stretch/>
        </p:blipFill>
        <p:spPr>
          <a:xfrm>
            <a:off x="6705720" y="7632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rcRect l="6667" t="0" r="0" b="1718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12 Proportional Reasoning (pages 3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of Proportional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s of 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74320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1" name="Content Placeholder 4" descr="Screen shot 2011-08-17 at 7.31.00 AM.png"/>
          <p:cNvPicPr/>
          <p:nvPr/>
        </p:nvPicPr>
        <p:blipFill>
          <a:blip r:embed="rId1"/>
          <a:srcRect l="-8875" t="0" r="-8875" b="0"/>
          <a:stretch/>
        </p:blipFill>
        <p:spPr>
          <a:xfrm>
            <a:off x="-685800" y="0"/>
            <a:ext cx="107348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B21A-3C2D-48BD-B66B-FDF80BD294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1371600"/>
            <a:ext cx="5410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“Concept Map” for 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ultiplicative Match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3812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onstruct Stages of Multiplicative Reasoning char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ach researcher (group)is highlighted in a different colou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tch one of each colour together to find connections between three researc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0" y="2666880"/>
            <a:ext cx="4343400" cy="301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t’s Do Mat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93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cut a piece of wood into 3 cm pieces, 1 cm is left over. If it is cut into 4 cm pieces or 5 cm pieces, 1 cm is still left over. How long is the original piece of w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B349-E8B2-4E18-B7D8-706FEE0FA1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creen shot 2011-08-17 at 7.29.02 AM.png"/>
          <p:cNvPicPr/>
          <p:nvPr/>
        </p:nvPicPr>
        <p:blipFill>
          <a:blip r:embed="rId1"/>
          <a:stretch/>
        </p:blipFill>
        <p:spPr>
          <a:xfrm>
            <a:off x="5257800" y="4105440"/>
            <a:ext cx="3886200" cy="27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ction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sample responses for Six-Dinner S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might you place it on the Stages of Multiplicative Thinking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447920"/>
            <a:ext cx="4038480" cy="40464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304920" y="5334120"/>
            <a:ext cx="83055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3100"/>
                </a:solidFill>
                <a:latin typeface="Times New Roman"/>
              </a:rPr>
              <a:t>Sid has 6 owners who all don't know about the others so he eats 6 dinners each n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3100"/>
                </a:solidFill>
                <a:latin typeface="Times New Roman"/>
              </a:rPr>
              <a:t>How many dinners would he eat in a w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5:49:26Z</dcterms:created>
  <dc:creator>CSC</dc:creator>
  <dc:description/>
  <cp:keywords/>
  <dc:language>en-US</dc:language>
  <cp:lastModifiedBy>Kathy Kubota-Zarivnij</cp:lastModifiedBy>
  <dcterms:modified xsi:type="dcterms:W3CDTF">2011-08-17T21:03:58Z</dcterms:modified>
  <cp:revision>102</cp:revision>
  <dc:subject/>
  <dc:title>&lt;Title&gt;</dc:title>
</cp:coreProperties>
</file>